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625-C3F6-486F-A09C-1799DF54C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32AA-EB02-4BE5-A080-4302F6C7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2E06-DEB1-430B-9AC7-5F9927211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9002-E57D-4DD7-82C5-7D89BEDAF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7CE9-BD7F-467D-92A7-9F48B980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47DC-ED91-4119-93F9-A502440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1E5B-0980-4D59-8C06-C2877EA2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507FD-B863-463A-B902-AE20EE72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1E4B-D2E5-4AAA-B360-A282146C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2069-A505-4415-AA9F-97E7F781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1C7B-0DF8-4F45-83F4-99F3BEA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FEA-1732-4AC0-BE24-4C9E7862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39B43-0166-479D-8EFB-4805BB9E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4378-58A8-42F3-95C7-FD63960F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8EBA-8AFF-4663-A623-C622DA28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C833A-1BED-4A50-8D6A-02FE86B7B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8D8C-8AE7-4FCA-88C8-74CF49567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6C2BA-088B-47AA-8AE6-95D053081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D6A30-8DD2-4B71-93FB-391428C7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1E9CE-C954-415C-99EF-4B009E28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61DE6-E517-4750-9050-029C7D59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7C2F8-7137-4770-97B1-4FE5094E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1CBE-712D-4F34-A119-76FA5EDA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2AFDA-479E-4298-99B0-A2550BA8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D2709-7AC5-4802-B28F-56ED292E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7AAB6-4844-484C-BB2F-D1BE93E4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FC848-78C6-4901-BBA8-6859A423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5AA45-F6EC-4FE5-9EC2-60B7CABE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77CFE-4C06-40B3-9AB5-A249C590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D3892-C258-4815-A4D9-A56210CD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682A9-2215-4E3F-BEA9-3692D2B8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1304-8D2C-46DD-BAF4-01383076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50C40-B2D3-4CF5-8B89-0CA6423D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11E0-A7D2-4320-9288-C1C3B84E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13053-AA32-4193-B52A-76C98D0A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BC43F-CE97-4674-BA08-75703C42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BC6EF-61A1-4187-B367-B6AA32E48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DBBE2-03B5-4055-9D14-0D75B570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12956-2332-47BA-B165-8D264E8C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98501-893F-4BC3-8334-B1A0E0E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77B3E-7FE4-4B8C-A930-BFF86D1D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D49D1-03E3-4C55-A096-58EAB8148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552FD-362B-4E5D-9CA8-05EC31E3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5985F-6F1A-487B-B06D-42CCE5451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EB42-66FB-4AC4-986C-44BC902A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313B0-E771-4179-96A9-5318CC55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BBA8C-2D72-4946-ADDD-F064DC91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DB2A1-5C6E-4F05-A011-2E8AF87C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8846C-8B8D-4CAB-982B-8C965F5CE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06C04-5AB4-48E7-9C5C-13856FB7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34D8-CEE1-43A9-A502-6E3EB663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CCA0E-A9DD-448D-B131-65527B21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61D3A-B223-4493-BE26-29CE533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522DC-B5FC-41C5-9214-2EFFA566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FC4B5-AE97-469D-83C7-E04768BA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8BD4-0E84-43D0-8633-4FD6A62D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9E940-EEAE-46FF-A54A-9974A42A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6A3DA-396B-4F37-8023-066ADABB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D20EAF-3851-4EEA-9A4B-A857150F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2FFA64-BB61-4061-B3D7-492638C1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DEA07-41C4-4980-8324-3574C057F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CCF8-B442-4E1D-871F-20BC2D40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4DCDA-407D-4AFC-93FB-AD6ECB39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D97A0-03A3-4EDA-ACD0-8AF18B9B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A0327-088A-410C-A904-4982D7FB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BEF5-BFEC-460D-8224-75E74505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3BE-DC97-48BC-8DDD-2558D83C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2B8B8-4F32-4353-A2C1-F3F3DADE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11A1B-8CF2-4B5F-A42A-7BA63860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E91F7-3610-4974-A11E-B430055B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D648D-FAFE-4EC9-8F0E-FB81AC48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5D2C6-94E1-488D-BD2E-3944B89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9D2122-1FF8-451C-906D-FE6842A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F241D-1401-403E-9191-42CF41AD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83DE9-BD3B-468D-98A8-77E73BCA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C56BC-950C-4D3F-AB05-7A18D34B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EB9A5-661C-4F02-92AF-8D416E27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745F-967D-430F-8281-E576B63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6C802-0C2B-4644-A653-3475A17E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ADA40-1209-4570-9E30-E8F2AB62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9CE36-EF0D-4EC7-98FD-49EDDF2A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6B877-B740-4CD3-BD27-3669C1F0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9EF973-A0EA-40CB-8151-FE43D4732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CA393-800F-4333-A807-0E6D609D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4C42E-358A-4F40-A671-BE1E6E3B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C6FA-DDF2-4EDD-A1CA-5D2B9F5B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B5609-C1F8-4C9B-BE6F-D5DB5F7A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9BB8E4-777F-4C4A-BB02-4FBF6113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772-DE51-4926-81FC-EF040BCB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AEE73-A3E2-4B6A-AE8F-D45FB109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D02F2-7931-4E8D-8B7E-851E3F2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FFDEF-35FE-45ED-ABF1-DD5A30E3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A3A93-7556-46B0-A033-EE4E3CA6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56C71-AEC9-4FF4-8819-CD5A0CCC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67338F-99F2-4F57-B94E-FEC8CE8D8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99DD6-1005-4A90-8A05-EBD88FFE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4137EC-4D0F-4648-9723-F54F3F3EFD4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0DA49-8BDB-4F6F-AB7B-566C8C870CB3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600" y="34977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040" y="37065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3720" y="32788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1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840" y="347400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3280" y="39106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0400" y="301608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76CE81-97FC-4033-A283-338A7180B842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0ECF6-6B46-410A-A287-41E09E1AC395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1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840" y="281376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3280" y="32500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0400" y="235584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D82E74-1CCF-46A7-9459-5E344AA9334D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AA52D-3CD3-4770-9FAD-E2C4213F267D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7800" y="1599840"/>
              <a:ext cx="7087680" cy="347544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1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6120" y="3523320"/>
                <a:ext cx="1432800" cy="9550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5120" y="4543920"/>
                <a:ext cx="931680" cy="6296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3040"/>
                <a:ext cx="1476360" cy="955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D64C06-4124-4CFB-B6FC-79598841C69F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9BB30B-5E8C-4E13-A4B4-0B7E88A36206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DA0A69-2890-4682-9F26-D925240ED9E9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C81E0E-CB4D-4185-A10D-C537B76686FB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2ECC5D-D6BA-420F-8CAF-CD2B380B0785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764D83-06DF-4A8C-B6DB-CF0DAF8AD69A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EAC01-0837-4B94-AAEF-2705153D98AC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015936-6CB0-47D2-BF6B-927D299A6BDB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196A0C-8338-4E78-B1AE-984028BE2FC8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50287-F48A-4DFC-8294-35703C1DDB67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Wrap Up A Long Way Gone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Mr. Rush / Mr. Farrell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Go Muskies!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hat we will do today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96320" y="1574280"/>
            <a:ext cx="3607920" cy="22320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What you will do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47720" y="2021040"/>
            <a:ext cx="37036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Go over Rubric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Finish book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404040"/>
                </a:solidFill>
                <a:latin typeface="News Gothic MT"/>
              </a:rPr>
              <a:t>On a scale of 1-5, 1 being low and 5 being high, how would you rate </a:t>
            </a:r>
            <a:r>
              <a:rPr b="1" i="1" lang="en-US" sz="1500" spc="-1" strike="noStrike">
                <a:solidFill>
                  <a:srgbClr val="404040"/>
                </a:solidFill>
                <a:latin typeface="News Gothic MT"/>
              </a:rPr>
              <a:t>A Long Way Gone</a:t>
            </a:r>
            <a:r>
              <a:rPr b="1" lang="en-US" sz="1500" spc="-1" strike="noStrike">
                <a:solidFill>
                  <a:srgbClr val="404040"/>
                </a:solidFill>
                <a:latin typeface="News Gothic MT"/>
              </a:rPr>
              <a:t>. Why? What did you think about the ending? What 3 questions were answered? What are 2 questions you want answered? Why? Write in word and post on your wiki.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Extra Credit Question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Turn in book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News Gothic MT"/>
              </a:rPr>
              <a:t>Return/ sign back in books</a:t>
            </a:r>
            <a:endParaRPr b="0" lang="en-US" sz="15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708440" y="1576440"/>
            <a:ext cx="3603600" cy="21888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Objectives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59120" y="2019240"/>
            <a:ext cx="37018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Identify/analyze issu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xplain how individuals/ groups (governmental and ngo’s) influence issu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how current issues/possible solutions may be viewed differently by cultural group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ways countries/ groups respond to unity vs. diversity ques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7:13:17Z</dcterms:created>
  <dc:creator>Craig Rush</dc:creator>
  <dc:description/>
  <dc:language>en-US</dc:language>
  <cp:lastModifiedBy>Craig Rush</cp:lastModifiedBy>
  <dcterms:modified xsi:type="dcterms:W3CDTF">2011-02-21T20:05:46Z</dcterms:modified>
  <cp:revision>1</cp:revision>
  <dc:subject/>
  <dc:title>Wrap Up A Long Way Gone</dc:title>
</cp:coreProperties>
</file>